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4.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A7EC-C562-49E6-94A6-BAADAC85E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BB8C-A0B3-4658-8B04-79DD212A6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5EAF-6CA9-4883-99AE-94E8CB3DD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9FA6-9128-42A8-926A-030DD9711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8B64-B28A-4938-9A32-FB3338433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E2ED-E85D-43CE-B178-8D7AC1C72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59C6-7F1D-46C5-AB15-7D19FCAE8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BA44-FC8E-4B0E-BB80-50B4132EA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F24E-F572-40D2-A62B-6EE74C5A4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2D5A-D712-42D7-87C2-A74202B70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C6FF-8BAD-46BF-A312-61B80BB30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3EDD-4454-4DDB-B23F-F5C3F3408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44C3-138B-4C4E-8C32-CC14EE76C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1E96-1A45-4525-8FED-0269DAEA1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9365-7A47-48ED-B081-36A8FEB40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A9CE-A0BA-472B-851B-C83E6E1A3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2F2B-DD27-4E34-A74E-1E1AB8814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0978-861F-4920-AB70-5531AD407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AB6E-A438-4AFC-B254-EA67A3BFA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CCF6-7936-4BA5-814E-A96EA46B6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08152-0C7B-44D7-B059-DDF69C82E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A6DCC-FAD8-4A26-8976-4099E43EF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AC943-4385-4F56-9F18-68AB2DD47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4D7CF-2EAC-448D-9278-4F692E4A7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14A1D-D2D6-41CD-B13C-E8CD3B955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58995-84AF-43B5-86C3-D8E563A0A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6073B-67DC-427C-A00D-B88316E51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4503F-957E-40FD-9426-99FDCF6FE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A7179-8D47-4535-96DE-CB6D27732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36BA0-7B83-40E7-A14D-3DDFF4CE1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02D7A-B807-44C3-9A47-7CF24AE39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7ABC-7E50-46B5-9B19-4C943FEF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2DEA7-4987-4E3F-9C4F-855C6F2FB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9E7E2-78F1-4357-A420-8A71568E1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2E17E-0E8F-415E-B8DA-EEEAB0207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F7CD4-E7F7-46C2-A85A-D88407F09B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6B3C0-3F19-482A-ABFD-9BFE0A736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83266-1BA6-44A2-AC65-4C403EA18A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FBF4D-7D70-4BD2-A624-1BEC30C53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B1876-1F47-4330-A83B-51FD47826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60C8F-59EA-47C7-8E14-3D7D881E5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52BC0-691D-402E-A2C1-3E8332513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FFC6E-DBF0-46A9-9264-9A1210B7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387C5-B9AF-431A-9F6F-E37EEFC90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14A6E-2121-4418-839F-68BA8EA5B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8B5B4-839D-46DE-A5FF-57E63BC043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F90C5-7D47-40F4-B055-F77090CAA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774E9-4874-4805-85C7-C0132E544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8A0FE-5170-4DC6-9D05-8307807FB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07B23D-4C4B-4500-840D-D7074550A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A235F7-D7E9-489A-B99B-86226432C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D138B-D2B6-4C39-A0FD-F0467A90C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228AC-7FED-4C29-9A5B-60E2ED20C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F9C3F-95A6-4367-B546-BC3AEE3E5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5EF30-7BEB-490F-B5ED-98787EF3C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8A77B-DD27-47AF-9564-B77C258C6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19B2B-F3E9-4B72-A008-BD4A0D2C0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CC206-22C6-43A3-A171-19AC1515C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CCE59-9842-4D00-82EF-7D8B4AF87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2BF14-1D72-45DC-B918-883BF0E7B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95450-D2B1-4542-BC7A-044AE9823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64D3CC-EE40-4EB9-B632-987045554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CF0FF3-0B52-4A8A-90E3-72151ABCD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230ED-A05C-44E9-8D46-3843B345A3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54DF4-E32B-4DCA-A03F-F382973F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CAE45-A09D-4642-81A3-D33F867185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1AFDD-7026-48B0-A026-13B4DE6F5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3F8FD-7D85-4DA6-88D9-F17ABCF4A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802F2-17C6-4A8C-9872-CA982D62B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30402-2D43-4BED-B015-F29D44734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E8823-B9B6-4A57-8064-2004C0379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8A80D-904F-4A53-B185-5ABA01D5B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7B7B6-6028-4298-BBBD-278D92D35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FC082-E70D-4093-AF09-1138F4B73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06459-F7F2-4BC5-A026-F8BC92827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F133-75C5-4829-8FF6-3D90CB678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D016E-71F9-46BA-9097-9869C20BF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239C-6CC9-4AA6-A4A1-CD3C4948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1A57-7474-4895-BA13-B7CE4C68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41C31-3113-403C-A656-20F4A4F11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D008-3038-4EB1-9DC3-BEBC03CFC3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67A1-9238-476C-A8E6-846EEA4561C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0317-E3C9-4D14-AD70-88FFEA6BB19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C50E-74E6-4A1E-A185-22CB633C08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728E-C202-44FE-BAFF-00D576231C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uter Login Information</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name: tmp_dcam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word: LetsTalk201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ltra-Advanced Research Tip</a:t>
            </a:r>
            <a:endParaRPr b="0" lang="en-US" sz="5000" spc="-1" strike="noStrike">
              <a:solidFill>
                <a:srgbClr val="04617b"/>
              </a:solidFill>
              <a:latin typeface="Calibri"/>
            </a:endParaRPr>
          </a:p>
        </p:txBody>
      </p:sp>
      <p:pic>
        <p:nvPicPr>
          <p:cNvPr id="275" name="Picture 3" descr=""/>
          <p:cNvPicPr/>
          <p:nvPr/>
        </p:nvPicPr>
        <p:blipFill>
          <a:blip r:embed="rId1"/>
          <a:stretch/>
        </p:blipFill>
        <p:spPr>
          <a:xfrm>
            <a:off x="1066680" y="1981080"/>
            <a:ext cx="728676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Not to Research</a:t>
            </a:r>
            <a:endParaRPr b="0" lang="en-US" sz="5000" spc="-1" strike="noStrike">
              <a:solidFill>
                <a:srgbClr val="04617b"/>
              </a:solidFill>
              <a:latin typeface="Calibri"/>
            </a:endParaRPr>
          </a:p>
        </p:txBody>
      </p:sp>
      <p:sp>
        <p:nvSpPr>
          <p:cNvPr id="277" name=""/>
          <p:cNvSpPr txBox="1"/>
          <p:nvPr/>
        </p:nvSpPr>
        <p:spPr>
          <a:xfrm>
            <a:off x="457200" y="1934640"/>
            <a:ext cx="3657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igh speed rail” and “nuclear war”</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gnoring opposing evidenc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llion cards, one argumen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bate search terms (key, solves, etc)</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ruth</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½ a file</a:t>
            </a:r>
            <a:endParaRPr b="0" lang="en-US" sz="2600" spc="-1" strike="noStrike">
              <a:solidFill>
                <a:srgbClr val="000000"/>
              </a:solidFill>
              <a:latin typeface="Constantia"/>
            </a:endParaRPr>
          </a:p>
        </p:txBody>
      </p:sp>
      <p:pic>
        <p:nvPicPr>
          <p:cNvPr id="278" name="Picture 2" descr=""/>
          <p:cNvPicPr/>
          <p:nvPr/>
        </p:nvPicPr>
        <p:blipFill>
          <a:blip r:embed="rId1"/>
          <a:stretch/>
        </p:blipFill>
        <p:spPr>
          <a:xfrm>
            <a:off x="4343400" y="2057400"/>
            <a:ext cx="4152960" cy="3086280"/>
          </a:xfrm>
          <a:prstGeom prst="rect">
            <a:avLst/>
          </a:prstGeom>
          <a:ln w="0">
            <a:noFill/>
          </a:ln>
        </p:spPr>
      </p:pic>
      <p:sp>
        <p:nvSpPr>
          <p:cNvPr id="279" name="TextBox 3"/>
          <p:cNvSpPr/>
          <p:nvPr/>
        </p:nvSpPr>
        <p:spPr>
          <a:xfrm>
            <a:off x="4572000" y="5143680"/>
            <a:ext cx="3924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be this aff doesn’t cause nuclear 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3" descr=""/>
          <p:cNvPicPr/>
          <p:nvPr/>
        </p:nvPicPr>
        <p:blipFill>
          <a:blip r:embed="rId1"/>
          <a:stretch/>
        </p:blipFill>
        <p:spPr>
          <a:xfrm>
            <a:off x="450720" y="920880"/>
            <a:ext cx="7851960" cy="1908000"/>
          </a:xfrm>
          <a:prstGeom prst="rect">
            <a:avLst/>
          </a:prstGeom>
          <a:ln w="0">
            <a:noFill/>
          </a:ln>
        </p:spPr>
      </p:pic>
      <p:sp>
        <p:nvSpPr>
          <p:cNvPr id="28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n Affirmative</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solvency mechanism, not harms 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s the tr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gle against common neg argumen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g stick (impact)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link)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quirrelly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ritik aff</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4" name="Picture 2" descr=""/>
          <p:cNvPicPr/>
          <p:nvPr/>
        </p:nvPicPr>
        <p:blipFill>
          <a:blip r:embed="rId1"/>
          <a:stretch/>
        </p:blipFill>
        <p:spPr>
          <a:xfrm>
            <a:off x="4876920" y="3564000"/>
            <a:ext cx="2414520" cy="2716200"/>
          </a:xfrm>
          <a:prstGeom prst="rect">
            <a:avLst/>
          </a:prstGeom>
          <a:ln w="0">
            <a:noFill/>
          </a:ln>
        </p:spPr>
      </p:pic>
      <p:sp>
        <p:nvSpPr>
          <p:cNvPr id="285" name="TextBox 3"/>
          <p:cNvSpPr/>
          <p:nvPr/>
        </p:nvSpPr>
        <p:spPr>
          <a:xfrm>
            <a:off x="5334120" y="6280200"/>
            <a:ext cx="195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squirrely af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 Disadvantage</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the lin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topic link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ecific link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queness comes la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divers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s that outweigh the aff</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s that turn the aff</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utting a Case neg</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the 1A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nterplans and other solvency mechanis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rything is fin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act defens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quo solv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ff is irrelevan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lvency</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advantage link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3" descr=""/>
          <p:cNvPicPr/>
          <p:nvPr/>
        </p:nvPicPr>
        <p:blipFill>
          <a:blip r:embed="rId1"/>
          <a:stretch/>
        </p:blipFill>
        <p:spPr>
          <a:xfrm>
            <a:off x="73080" y="920880"/>
            <a:ext cx="8845560" cy="1908000"/>
          </a:xfrm>
          <a:prstGeom prst="rect">
            <a:avLst/>
          </a:prstGeom>
          <a:ln w="0">
            <a:noFill/>
          </a:ln>
        </p:spPr>
      </p:pic>
      <p:sp>
        <p:nvSpPr>
          <p:cNvPr id="29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92" name="Picture 5" descr=""/>
          <p:cNvPicPr/>
          <p:nvPr/>
        </p:nvPicPr>
        <p:blipFill>
          <a:blip r:embed="rId2"/>
          <a:stretch/>
        </p:blipFill>
        <p:spPr>
          <a:xfrm>
            <a:off x="2590920" y="3048120"/>
            <a:ext cx="3213000" cy="35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nets Shortcuts</a:t>
            </a:r>
            <a:endParaRPr b="0" lang="en-US" sz="50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tab – Ctrl+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window – Ctrl+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en in new window - Middle click/Ctrl+Clic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 to next window - Ctrl+Ta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 to last window - Ctrl+Shift+Ta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ose tab - Ctrl+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URL - F6 (Command-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gle Tricks</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ct phrase search - “X and 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clude a word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ynonyms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site restriction – site:google.c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 – “a * saved is a * earn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ound – query AROUND (4)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letype – filetype:pdf</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endParaRPr b="0" lang="en-US" sz="5000" spc="-1" strike="noStrike">
              <a:solidFill>
                <a:srgbClr val="04617b"/>
              </a:solidFill>
              <a:latin typeface="Calibri"/>
            </a:endParaRPr>
          </a:p>
        </p:txBody>
      </p:sp>
      <p:pic>
        <p:nvPicPr>
          <p:cNvPr id="298" name="Rectangle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30280" y="1371600"/>
            <a:ext cx="7918560" cy="1974960"/>
          </a:xfrm>
          <a:prstGeom prst="rect">
            <a:avLst/>
          </a:prstGeom>
          <a:ln w="0">
            <a:noFill/>
          </a:ln>
        </p:spPr>
      </p:pic>
      <p:sp>
        <p:nvSpPr>
          <p:cNvPr id="255"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ejandres Gannon, UC Berkele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 specific sources</a:t>
            </a:r>
            <a:endParaRPr b="0" lang="en-US"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o Center for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netiz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 Infrastructure and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portation Poli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eritage Foundation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Expe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Research Bo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3" descr=""/>
          <p:cNvPicPr/>
          <p:nvPr/>
        </p:nvPicPr>
        <p:blipFill>
          <a:blip r:embed="rId1"/>
          <a:stretch/>
        </p:blipFill>
        <p:spPr>
          <a:xfrm>
            <a:off x="450720" y="1316160"/>
            <a:ext cx="7851960" cy="1512720"/>
          </a:xfrm>
          <a:prstGeom prst="rect">
            <a:avLst/>
          </a:prstGeom>
          <a:ln w="0">
            <a:noFill/>
          </a:ln>
        </p:spPr>
      </p:pic>
      <p:sp>
        <p:nvSpPr>
          <p:cNvPr id="302"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processing?</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nal product of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you aim to arrive at when you take articles from the internet and convert them into evidence car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ings to Have When Processing</a:t>
            </a:r>
            <a:endParaRPr b="0" lang="en-US" sz="50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ort summary of the argument your card m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have a ta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y your argumen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owabilit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should be included in a ta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aim – argument the card mak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rant – why that argument is true</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tag, bad tag!</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lves oil dependenc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ff is the apotheosis of the capitalist death machine which threatens to be, for the first time in the age of humanity, that which brings upon us our imminent doom in the fiery splash of the decadence of greed and filth</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rming is real and anthropogenic – models and scientific consensus are on our si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Cite?</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have a ci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o include in a ci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hor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hor qualifica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e publish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cle na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 (Newspaper, Journal name, et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RL/Database f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2">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2">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1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1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1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cite!</a:t>
            </a: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Langford</a:t>
            </a:r>
            <a:r>
              <a:rPr b="0" lang="en-US" sz="2600" spc="-1" strike="noStrike">
                <a:solidFill>
                  <a:srgbClr val="000000"/>
                </a:solidFill>
                <a:latin typeface="Constantia"/>
              </a:rPr>
              <a:t>, Lieutenant Colonel US Army, ‘</a:t>
            </a:r>
            <a:r>
              <a:rPr b="1" lang="en-US" sz="2600" spc="-1" strike="noStrike">
                <a:solidFill>
                  <a:srgbClr val="000000"/>
                </a:solidFill>
                <a:latin typeface="Constantia"/>
              </a:rPr>
              <a:t>4</a:t>
            </a:r>
            <a:r>
              <a:rPr b="0" lang="en-US" sz="2600" spc="-1" strike="noStrike">
                <a:solidFill>
                  <a:srgbClr val="000000"/>
                </a:solidFill>
                <a:latin typeface="Constantia"/>
              </a:rPr>
              <a:t> (Gary, May 3, “Power Projection Platforms: An Essential Element of Future National Security Strategy” US Army War College, http://www.dtic.mil/cgi-bin/GetTRDoc?AD=ADA423647)</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card?</a:t>
            </a:r>
            <a:endParaRPr b="0" lang="en-US" sz="50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to d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lude the entire text of what you’re us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n’t cut off paragraph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line wel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nal Product</a:t>
            </a:r>
            <a:endParaRPr b="0" lang="en-US" sz="5000" spc="-1" strike="noStrike">
              <a:solidFill>
                <a:srgbClr val="04617b"/>
              </a:solidFill>
              <a:latin typeface="Calibri"/>
            </a:endParaRPr>
          </a:p>
        </p:txBody>
      </p:sp>
      <p:pic>
        <p:nvPicPr>
          <p:cNvPr id="318" name="Picture 2" descr=""/>
          <p:cNvPicPr/>
          <p:nvPr/>
        </p:nvPicPr>
        <p:blipFill>
          <a:blip r:embed="rId1"/>
          <a:stretch/>
        </p:blipFill>
        <p:spPr>
          <a:xfrm>
            <a:off x="609480" y="1981080"/>
            <a:ext cx="784872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3" descr=""/>
          <p:cNvPicPr/>
          <p:nvPr/>
        </p:nvPicPr>
        <p:blipFill>
          <a:blip r:embed="rId1"/>
          <a:stretch/>
        </p:blipFill>
        <p:spPr>
          <a:xfrm>
            <a:off x="450720" y="920880"/>
            <a:ext cx="7851960" cy="1908000"/>
          </a:xfrm>
          <a:prstGeom prst="rect">
            <a:avLst/>
          </a:prstGeom>
          <a:ln w="0">
            <a:noFill/>
          </a:ln>
        </p:spPr>
      </p:pic>
      <p:pic>
        <p:nvPicPr>
          <p:cNvPr id="257" name="Picture 1" descr=""/>
          <p:cNvPicPr/>
          <p:nvPr/>
        </p:nvPicPr>
        <p:blipFill>
          <a:blip r:embed="rId2"/>
          <a:stretch/>
        </p:blipFill>
        <p:spPr>
          <a:xfrm>
            <a:off x="4114800" y="1981080"/>
            <a:ext cx="2692440" cy="4038840"/>
          </a:xfrm>
          <a:prstGeom prst="rect">
            <a:avLst/>
          </a:prstGeom>
          <a:ln w="0">
            <a:noFill/>
          </a:ln>
        </p:spPr>
      </p:pic>
      <p:sp>
        <p:nvSpPr>
          <p:cNvPr id="258" name="TextBox 2"/>
          <p:cNvSpPr/>
          <p:nvPr/>
        </p:nvSpPr>
        <p:spPr>
          <a:xfrm>
            <a:off x="4191120" y="6019920"/>
            <a:ext cx="2616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ut my first c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3" descr=""/>
          <p:cNvPicPr/>
          <p:nvPr/>
        </p:nvPicPr>
        <p:blipFill>
          <a:blip r:embed="rId1"/>
          <a:stretch/>
        </p:blipFill>
        <p:spPr>
          <a:xfrm>
            <a:off x="450720" y="1316160"/>
            <a:ext cx="7851960" cy="1512720"/>
          </a:xfrm>
          <a:prstGeom prst="rect">
            <a:avLst/>
          </a:prstGeom>
          <a:ln w="0">
            <a:noFill/>
          </a:ln>
        </p:spPr>
      </p:pic>
      <p:sp>
        <p:nvSpPr>
          <p:cNvPr id="320"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erbatim</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perlessdebate.com</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quirement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C – Office 2010</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c – Office 201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d Ribbon</a:t>
            </a:r>
            <a:endParaRPr b="0" lang="en-US" sz="5000" spc="-1" strike="noStrike">
              <a:solidFill>
                <a:srgbClr val="04617b"/>
              </a:solidFill>
              <a:latin typeface="Calibri"/>
            </a:endParaRPr>
          </a:p>
        </p:txBody>
      </p:sp>
      <p:pic>
        <p:nvPicPr>
          <p:cNvPr id="324" name="Picture 2" descr=""/>
          <p:cNvPicPr/>
          <p:nvPr/>
        </p:nvPicPr>
        <p:blipFill>
          <a:blip r:embed="rId1"/>
          <a:stretch/>
        </p:blipFill>
        <p:spPr>
          <a:xfrm>
            <a:off x="304920" y="2362320"/>
            <a:ext cx="8575560" cy="18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3" descr=""/>
          <p:cNvPicPr/>
          <p:nvPr/>
        </p:nvPicPr>
        <p:blipFill>
          <a:blip r:embed="rId1"/>
          <a:stretch/>
        </p:blipFill>
        <p:spPr>
          <a:xfrm>
            <a:off x="73080" y="804960"/>
            <a:ext cx="8845560" cy="2760480"/>
          </a:xfrm>
          <a:prstGeom prst="rect">
            <a:avLst/>
          </a:prstGeom>
          <a:ln w="0">
            <a:noFill/>
          </a:ln>
        </p:spPr>
      </p:pic>
      <p:pic>
        <p:nvPicPr>
          <p:cNvPr id="326" name="Picture 5" descr=""/>
          <p:cNvPicPr/>
          <p:nvPr/>
        </p:nvPicPr>
        <p:blipFill>
          <a:blip r:embed="rId2"/>
          <a:stretch/>
        </p:blipFill>
        <p:spPr>
          <a:xfrm>
            <a:off x="2590920" y="3048120"/>
            <a:ext cx="3213000" cy="3533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cessing fast hands</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y - Ctrl-C (Command-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te - Ctrl-V (Command-V)</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t - Ctrl-X (Command-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o - Ctrl-Z (Command-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do - Ctrl-Y (Command-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all - Ctrl-A (Command-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witch windows – Alt+Tab (4-finger swipe/F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paragraph - Ctrl+Shift+Arrow Up/D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ect word - Ctrl+Shift+Arrow Left/Righ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endParaRPr b="0" lang="en-US" sz="5000" spc="-1" strike="noStrike">
              <a:solidFill>
                <a:srgbClr val="04617b"/>
              </a:solidFill>
              <a:latin typeface="Calibri"/>
            </a:endParaRPr>
          </a:p>
        </p:txBody>
      </p:sp>
      <p:pic>
        <p:nvPicPr>
          <p:cNvPr id="330" name="Rectangle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gle Tricks</a:t>
            </a: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act phrase search - “X and 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clude a word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ynonyms -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bsite restriction – site:google.co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 – “a * saved is a * earn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ound – query AROUND (4) que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letype – filetype:pdf</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xis</a:t>
            </a:r>
            <a:endParaRPr b="0" lang="en-US" sz="50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thin</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rds - w/#  (eg. obama w/25 political capital)</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agraph – w/p</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tence – w/s</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dcards</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 wom*n</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 transport!</a:t>
            </a: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least#(word) - atleast25(transportation)</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 AN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 specific sources</a:t>
            </a:r>
            <a:endParaRPr b="0" lang="en-US" sz="50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o Center for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lanetiz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 Infrastructure and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Transportation Poli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eritage Foundation Transpor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Expe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ransportation Research Boar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3" descr=""/>
          <p:cNvPicPr/>
          <p:nvPr/>
        </p:nvPicPr>
        <p:blipFill>
          <a:blip r:embed="rId1"/>
          <a:stretch/>
        </p:blipFill>
        <p:spPr>
          <a:xfrm>
            <a:off x="450720" y="1316160"/>
            <a:ext cx="7851960" cy="1512720"/>
          </a:xfrm>
          <a:prstGeom prst="rect">
            <a:avLst/>
          </a:prstGeom>
          <a:ln w="0">
            <a:noFill/>
          </a:ln>
        </p:spPr>
      </p:pic>
      <p:sp>
        <p:nvSpPr>
          <p:cNvPr id="338"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od Debaters</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persuasively convince the judge their argument is better than their opponents argum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liver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en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earching is about producing the best possible content you can for a deba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nd it!</a:t>
            </a:r>
            <a:endParaRPr b="0" lang="en-US" sz="5000" spc="-1" strike="noStrike">
              <a:solidFill>
                <a:srgbClr val="04617b"/>
              </a:solidFill>
              <a:latin typeface="Calibri"/>
            </a:endParaRPr>
          </a:p>
        </p:txBody>
      </p:sp>
      <p:sp>
        <p:nvSpPr>
          <p:cNvPr id="340" name=""/>
          <p:cNvSpPr txBox="1"/>
          <p:nvPr/>
        </p:nvSpPr>
        <p:spPr>
          <a:xfrm>
            <a:off x="228240" y="1934640"/>
            <a:ext cx="84582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Oil Dependence Threatens Economic Stability” Feb, 2011</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eps</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it</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py and paste the article into Word/Verbatim</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Underline</a:t>
            </a:r>
            <a:r>
              <a:rPr b="0" lang="en-US" sz="2600" spc="-1" strike="noStrike">
                <a:solidFill>
                  <a:srgbClr val="000000"/>
                </a:solidFill>
                <a:latin typeface="Constantia"/>
              </a:rPr>
              <a:t> the card</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the card a </a:t>
            </a:r>
            <a:r>
              <a:rPr b="0" lang="en-US" sz="2600" spc="-1" strike="noStrike" u="sng">
                <a:solidFill>
                  <a:srgbClr val="000000"/>
                </a:solidFill>
                <a:uFillTx/>
                <a:latin typeface="Constantia"/>
              </a:rPr>
              <a:t>tag</a:t>
            </a:r>
            <a:endParaRPr b="0" lang="en-US" sz="2600" spc="-1" strike="noStrike">
              <a:solidFill>
                <a:srgbClr val="000000"/>
              </a:solidFill>
              <a:latin typeface="Constantia"/>
            </a:endParaRPr>
          </a:p>
          <a:p>
            <a:pPr>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the card a </a:t>
            </a:r>
            <a:r>
              <a:rPr b="0" lang="en-US" sz="2600" spc="-1" strike="noStrike" u="sng">
                <a:solidFill>
                  <a:srgbClr val="000000"/>
                </a:solidFill>
                <a:uFillTx/>
                <a:latin typeface="Constantia"/>
              </a:rPr>
              <a:t>cit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Research?</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wins deb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is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gets creative</a:t>
            </a:r>
            <a:endParaRPr b="0" lang="en-US" sz="2600" spc="-1" strike="noStrike">
              <a:solidFill>
                <a:srgbClr val="000000"/>
              </a:solidFill>
              <a:latin typeface="Constantia"/>
            </a:endParaRPr>
          </a:p>
        </p:txBody>
      </p:sp>
      <p:pic>
        <p:nvPicPr>
          <p:cNvPr id="263" name="Picture 1" descr=""/>
          <p:cNvPicPr/>
          <p:nvPr/>
        </p:nvPicPr>
        <p:blipFill>
          <a:blip r:embed="rId1"/>
          <a:stretch/>
        </p:blipFill>
        <p:spPr>
          <a:xfrm>
            <a:off x="4267080" y="2590920"/>
            <a:ext cx="3067200" cy="3429000"/>
          </a:xfrm>
          <a:prstGeom prst="rect">
            <a:avLst/>
          </a:prstGeom>
          <a:ln w="0">
            <a:noFill/>
          </a:ln>
        </p:spPr>
      </p:pic>
      <p:sp>
        <p:nvSpPr>
          <p:cNvPr id="264" name="TextBox 2"/>
          <p:cNvSpPr/>
          <p:nvPr/>
        </p:nvSpPr>
        <p:spPr>
          <a:xfrm>
            <a:off x="3600360" y="6019920"/>
            <a:ext cx="3733920" cy="261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one more card mom, promis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3" descr=""/>
          <p:cNvPicPr/>
          <p:nvPr/>
        </p:nvPicPr>
        <p:blipFill>
          <a:blip r:embed="rId1"/>
          <a:stretch/>
        </p:blipFill>
        <p:spPr>
          <a:xfrm>
            <a:off x="450720" y="920880"/>
            <a:ext cx="7851960" cy="1908000"/>
          </a:xfrm>
          <a:prstGeom prst="rect">
            <a:avLst/>
          </a:prstGeom>
          <a:ln w="0">
            <a:noFill/>
          </a:ln>
        </p:spPr>
      </p:pic>
      <p:sp>
        <p:nvSpPr>
          <p:cNvPr id="26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to Researc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should produce arguments that you can read in a deb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form do these argument tak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 organize argum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m I looking f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I get from a google search to a completed fi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Research Tip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 scientific formula for how to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rt with broad searches to investigate where the literature is go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mediate Research Tips</a:t>
            </a:r>
            <a:endParaRPr b="0" lang="en-US" sz="5000" spc="-1" strike="noStrike">
              <a:solidFill>
                <a:srgbClr val="04617b"/>
              </a:solidFill>
              <a:latin typeface="Calibri"/>
            </a:endParaRPr>
          </a:p>
        </p:txBody>
      </p:sp>
      <p:pic>
        <p:nvPicPr>
          <p:cNvPr id="272" name="Picture 3" descr=""/>
          <p:cNvPicPr/>
          <p:nvPr/>
        </p:nvPicPr>
        <p:blipFill>
          <a:blip r:embed="rId1"/>
          <a:stretch/>
        </p:blipFill>
        <p:spPr>
          <a:xfrm>
            <a:off x="228600" y="1981080"/>
            <a:ext cx="3809880" cy="4114800"/>
          </a:xfrm>
          <a:prstGeom prst="rect">
            <a:avLst/>
          </a:prstGeom>
          <a:ln w="0">
            <a:noFill/>
          </a:ln>
        </p:spPr>
      </p:pic>
      <p:sp>
        <p:nvSpPr>
          <p:cNvPr id="273" name="PlaceHolder 2"/>
          <p:cNvSpPr>
            <a:spLocks noGrp="1"/>
          </p:cNvSpPr>
          <p:nvPr>
            <p:ph/>
          </p:nvPr>
        </p:nvSpPr>
        <p:spPr>
          <a:xfrm>
            <a:off x="4267080" y="1981080"/>
            <a:ext cx="4648320" cy="411480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a:r>
            <a:r>
              <a:rPr b="0" lang="en-US" sz="2800" spc="-1" strike="noStrike">
                <a:solidFill>
                  <a:srgbClr val="000000"/>
                </a:solidFill>
                <a:latin typeface="Constantia"/>
              </a:rPr>
              <a:t>Finance Reform Will Pas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icking the Right Languag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llowing the Li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otno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06:43:27Z</dcterms:created>
  <dc:creator>Andres</dc:creator>
  <dc:description/>
  <dc:language>en-US</dc:language>
  <cp:lastModifiedBy>The Adams Family</cp:lastModifiedBy>
  <dcterms:modified xsi:type="dcterms:W3CDTF">2012-08-29T13:16:12Z</dcterms:modified>
  <cp:revision>12</cp:revision>
  <dc:subject/>
  <dc:title>Research Lecture</dc:title>
</cp:coreProperties>
</file>